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154-02B9-441F-83E9-962068D3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F40-9406-4D66-A471-1999A950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18D-24CB-4D1A-8D73-F134737A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BF7-9DF5-413A-8D70-89A6E4AD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AAA-8E0E-47DB-9511-ACF0326D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945-0FDB-4464-A790-01730AA1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A33-0BAE-409A-8512-F53CD883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41A-6889-46E2-8DC8-E677617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02B-ED00-473C-AA60-FC2039B6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FFE-BE35-4D00-B7AE-E06C286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4A2-9805-453E-AEC8-DECDEB5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31F-622E-4DFB-8E3E-473E10D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F1A-5F94-4E5A-A79E-160F00365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57400">
            <a:off x="527040" y="277560"/>
            <a:ext cx="34290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ressions of time 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609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(answer the questions of QUA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95280"/>
            <a:ext cx="4724640" cy="2667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Times New Roman"/>
              </a:rPr>
              <a:t>MOMENT OF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merig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676520" y="22096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6668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590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lso (r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219320"/>
            <a:ext cx="22860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merig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1752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1905120" cy="187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111456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772400" y="3200400"/>
            <a:ext cx="117936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21358200">
            <a:off x="2134080" y="41148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ff0000"/>
                </a:solidFill>
                <a:uFillTx/>
                <a:latin typeface="Verdana"/>
              </a:rPr>
              <a:t>Di sera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 passeggio con la mia famig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8000"/>
                </a:solidFill>
                <a:uFillTx/>
                <a:latin typeface="Verdana"/>
              </a:rPr>
              <a:t>Al pomeriggio</a:t>
            </a:r>
            <a:r>
              <a:rPr b="0" i="1" lang="en-GB" sz="2400" spc="-1" strike="noStrike">
                <a:solidFill>
                  <a:srgbClr val="008000"/>
                </a:solidFill>
                <a:latin typeface="Verdana"/>
              </a:rPr>
              <a:t> guardo un po’ di televi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0" y="0"/>
            <a:ext cx="58672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8600"/>
            <a:ext cx="2313000" cy="939960"/>
          </a:xfrm>
          <a:custGeom>
            <a:avLst/>
            <a:gdLst/>
            <a:ahLst/>
            <a:rect l="l" t="t" r="r" b="b"/>
            <a:pathLst>
              <a:path w="1457" h="592">
                <a:moveTo>
                  <a:pt x="0" y="0"/>
                </a:moveTo>
                <a:cubicBezTo>
                  <a:pt x="63" y="12"/>
                  <a:pt x="89" y="22"/>
                  <a:pt x="145" y="55"/>
                </a:cubicBezTo>
                <a:cubicBezTo>
                  <a:pt x="195" y="130"/>
                  <a:pt x="184" y="247"/>
                  <a:pt x="123" y="311"/>
                </a:cubicBezTo>
                <a:cubicBezTo>
                  <a:pt x="119" y="322"/>
                  <a:pt x="117" y="334"/>
                  <a:pt x="111" y="344"/>
                </a:cubicBezTo>
                <a:cubicBezTo>
                  <a:pt x="102" y="360"/>
                  <a:pt x="86" y="372"/>
                  <a:pt x="78" y="388"/>
                </a:cubicBezTo>
                <a:cubicBezTo>
                  <a:pt x="59" y="426"/>
                  <a:pt x="53" y="470"/>
                  <a:pt x="45" y="511"/>
                </a:cubicBezTo>
                <a:cubicBezTo>
                  <a:pt x="49" y="533"/>
                  <a:pt x="39" y="563"/>
                  <a:pt x="56" y="577"/>
                </a:cubicBezTo>
                <a:cubicBezTo>
                  <a:pt x="75" y="592"/>
                  <a:pt x="145" y="540"/>
                  <a:pt x="167" y="533"/>
                </a:cubicBezTo>
                <a:cubicBezTo>
                  <a:pt x="199" y="485"/>
                  <a:pt x="215" y="494"/>
                  <a:pt x="267" y="477"/>
                </a:cubicBezTo>
                <a:cubicBezTo>
                  <a:pt x="300" y="481"/>
                  <a:pt x="335" y="479"/>
                  <a:pt x="367" y="488"/>
                </a:cubicBezTo>
                <a:cubicBezTo>
                  <a:pt x="377" y="491"/>
                  <a:pt x="378" y="512"/>
                  <a:pt x="389" y="511"/>
                </a:cubicBezTo>
                <a:cubicBezTo>
                  <a:pt x="424" y="508"/>
                  <a:pt x="489" y="477"/>
                  <a:pt x="489" y="477"/>
                </a:cubicBezTo>
                <a:cubicBezTo>
                  <a:pt x="517" y="449"/>
                  <a:pt x="575" y="375"/>
                  <a:pt x="623" y="355"/>
                </a:cubicBezTo>
                <a:cubicBezTo>
                  <a:pt x="667" y="336"/>
                  <a:pt x="721" y="334"/>
                  <a:pt x="767" y="322"/>
                </a:cubicBezTo>
                <a:cubicBezTo>
                  <a:pt x="895" y="332"/>
                  <a:pt x="973" y="343"/>
                  <a:pt x="1100" y="333"/>
                </a:cubicBezTo>
                <a:cubicBezTo>
                  <a:pt x="1122" y="311"/>
                  <a:pt x="1137" y="276"/>
                  <a:pt x="1167" y="266"/>
                </a:cubicBezTo>
                <a:cubicBezTo>
                  <a:pt x="1254" y="238"/>
                  <a:pt x="1346" y="216"/>
                  <a:pt x="1423" y="166"/>
                </a:cubicBezTo>
                <a:cubicBezTo>
                  <a:pt x="1456" y="116"/>
                  <a:pt x="1457" y="106"/>
                  <a:pt x="1445" y="44"/>
                </a:cubicBezTo>
                <a:cubicBezTo>
                  <a:pt x="1401" y="48"/>
                  <a:pt x="1356" y="47"/>
                  <a:pt x="1312" y="55"/>
                </a:cubicBezTo>
                <a:cubicBezTo>
                  <a:pt x="1296" y="58"/>
                  <a:pt x="1283" y="73"/>
                  <a:pt x="1267" y="77"/>
                </a:cubicBezTo>
                <a:cubicBezTo>
                  <a:pt x="1242" y="84"/>
                  <a:pt x="1215" y="84"/>
                  <a:pt x="1189" y="88"/>
                </a:cubicBezTo>
                <a:cubicBezTo>
                  <a:pt x="1081" y="126"/>
                  <a:pt x="1146" y="109"/>
                  <a:pt x="989" y="122"/>
                </a:cubicBezTo>
                <a:cubicBezTo>
                  <a:pt x="889" y="118"/>
                  <a:pt x="789" y="120"/>
                  <a:pt x="689" y="111"/>
                </a:cubicBezTo>
                <a:cubicBezTo>
                  <a:pt x="658" y="108"/>
                  <a:pt x="600" y="88"/>
                  <a:pt x="600" y="88"/>
                </a:cubicBezTo>
                <a:cubicBezTo>
                  <a:pt x="549" y="54"/>
                  <a:pt x="503" y="39"/>
                  <a:pt x="445" y="22"/>
                </a:cubicBezTo>
                <a:cubicBezTo>
                  <a:pt x="422" y="15"/>
                  <a:pt x="378" y="0"/>
                  <a:pt x="378" y="0"/>
                </a:cubicBezTo>
                <a:cubicBezTo>
                  <a:pt x="59" y="12"/>
                  <a:pt x="185" y="23"/>
                  <a:pt x="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257800"/>
            <a:ext cx="1727280" cy="1371600"/>
          </a:xfrm>
          <a:custGeom>
            <a:avLst/>
            <a:gdLst/>
            <a:ahLst/>
            <a:rect l="l" t="t" r="r" b="b"/>
            <a:pathLst>
              <a:path w="1088" h="864">
                <a:moveTo>
                  <a:pt x="160" y="8"/>
                </a:moveTo>
                <a:cubicBezTo>
                  <a:pt x="248" y="0"/>
                  <a:pt x="456" y="160"/>
                  <a:pt x="544" y="248"/>
                </a:cubicBezTo>
                <a:cubicBezTo>
                  <a:pt x="632" y="336"/>
                  <a:pt x="600" y="472"/>
                  <a:pt x="688" y="536"/>
                </a:cubicBezTo>
                <a:cubicBezTo>
                  <a:pt x="776" y="600"/>
                  <a:pt x="1088" y="584"/>
                  <a:pt x="1072" y="632"/>
                </a:cubicBezTo>
                <a:cubicBezTo>
                  <a:pt x="1056" y="680"/>
                  <a:pt x="712" y="840"/>
                  <a:pt x="592" y="824"/>
                </a:cubicBezTo>
                <a:cubicBezTo>
                  <a:pt x="472" y="808"/>
                  <a:pt x="432" y="536"/>
                  <a:pt x="352" y="536"/>
                </a:cubicBezTo>
                <a:cubicBezTo>
                  <a:pt x="272" y="536"/>
                  <a:pt x="168" y="864"/>
                  <a:pt x="112" y="824"/>
                </a:cubicBezTo>
                <a:cubicBezTo>
                  <a:pt x="56" y="784"/>
                  <a:pt x="0" y="432"/>
                  <a:pt x="16" y="296"/>
                </a:cubicBezTo>
                <a:cubicBezTo>
                  <a:pt x="32" y="160"/>
                  <a:pt x="72" y="16"/>
                  <a:pt x="160" y="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410080"/>
            <a:ext cx="2154240" cy="1101960"/>
          </a:xfrm>
          <a:custGeom>
            <a:avLst/>
            <a:gdLst/>
            <a:ahLst/>
            <a:rect l="l" t="t" r="r" b="b"/>
            <a:pathLst>
              <a:path w="1622" h="857">
                <a:moveTo>
                  <a:pt x="533" y="7"/>
                </a:moveTo>
                <a:cubicBezTo>
                  <a:pt x="438" y="31"/>
                  <a:pt x="369" y="76"/>
                  <a:pt x="289" y="129"/>
                </a:cubicBezTo>
                <a:cubicBezTo>
                  <a:pt x="285" y="140"/>
                  <a:pt x="279" y="150"/>
                  <a:pt x="278" y="162"/>
                </a:cubicBezTo>
                <a:cubicBezTo>
                  <a:pt x="271" y="251"/>
                  <a:pt x="282" y="341"/>
                  <a:pt x="266" y="429"/>
                </a:cubicBezTo>
                <a:cubicBezTo>
                  <a:pt x="263" y="447"/>
                  <a:pt x="237" y="451"/>
                  <a:pt x="222" y="462"/>
                </a:cubicBezTo>
                <a:cubicBezTo>
                  <a:pt x="190" y="485"/>
                  <a:pt x="170" y="506"/>
                  <a:pt x="133" y="518"/>
                </a:cubicBezTo>
                <a:cubicBezTo>
                  <a:pt x="118" y="529"/>
                  <a:pt x="105" y="542"/>
                  <a:pt x="89" y="551"/>
                </a:cubicBezTo>
                <a:cubicBezTo>
                  <a:pt x="79" y="557"/>
                  <a:pt x="64" y="554"/>
                  <a:pt x="55" y="562"/>
                </a:cubicBezTo>
                <a:cubicBezTo>
                  <a:pt x="32" y="582"/>
                  <a:pt x="13" y="624"/>
                  <a:pt x="0" y="651"/>
                </a:cubicBezTo>
                <a:cubicBezTo>
                  <a:pt x="7" y="706"/>
                  <a:pt x="4" y="762"/>
                  <a:pt x="55" y="796"/>
                </a:cubicBezTo>
                <a:cubicBezTo>
                  <a:pt x="69" y="805"/>
                  <a:pt x="84" y="813"/>
                  <a:pt x="100" y="818"/>
                </a:cubicBezTo>
                <a:cubicBezTo>
                  <a:pt x="136" y="828"/>
                  <a:pt x="211" y="840"/>
                  <a:pt x="211" y="840"/>
                </a:cubicBezTo>
                <a:cubicBezTo>
                  <a:pt x="252" y="836"/>
                  <a:pt x="296" y="847"/>
                  <a:pt x="333" y="829"/>
                </a:cubicBezTo>
                <a:cubicBezTo>
                  <a:pt x="413" y="789"/>
                  <a:pt x="398" y="655"/>
                  <a:pt x="466" y="607"/>
                </a:cubicBezTo>
                <a:cubicBezTo>
                  <a:pt x="479" y="598"/>
                  <a:pt x="496" y="600"/>
                  <a:pt x="511" y="596"/>
                </a:cubicBezTo>
                <a:cubicBezTo>
                  <a:pt x="574" y="612"/>
                  <a:pt x="622" y="649"/>
                  <a:pt x="666" y="696"/>
                </a:cubicBezTo>
                <a:cubicBezTo>
                  <a:pt x="670" y="707"/>
                  <a:pt x="666" y="727"/>
                  <a:pt x="678" y="729"/>
                </a:cubicBezTo>
                <a:cubicBezTo>
                  <a:pt x="714" y="735"/>
                  <a:pt x="783" y="664"/>
                  <a:pt x="822" y="651"/>
                </a:cubicBezTo>
                <a:cubicBezTo>
                  <a:pt x="885" y="655"/>
                  <a:pt x="961" y="634"/>
                  <a:pt x="1011" y="673"/>
                </a:cubicBezTo>
                <a:cubicBezTo>
                  <a:pt x="1088" y="733"/>
                  <a:pt x="1124" y="818"/>
                  <a:pt x="1222" y="851"/>
                </a:cubicBezTo>
                <a:cubicBezTo>
                  <a:pt x="1289" y="843"/>
                  <a:pt x="1358" y="839"/>
                  <a:pt x="1422" y="818"/>
                </a:cubicBezTo>
                <a:cubicBezTo>
                  <a:pt x="1452" y="725"/>
                  <a:pt x="1414" y="857"/>
                  <a:pt x="1422" y="651"/>
                </a:cubicBezTo>
                <a:cubicBezTo>
                  <a:pt x="1424" y="599"/>
                  <a:pt x="1432" y="547"/>
                  <a:pt x="1444" y="496"/>
                </a:cubicBezTo>
                <a:cubicBezTo>
                  <a:pt x="1455" y="451"/>
                  <a:pt x="1544" y="437"/>
                  <a:pt x="1578" y="396"/>
                </a:cubicBezTo>
                <a:cubicBezTo>
                  <a:pt x="1601" y="368"/>
                  <a:pt x="1622" y="296"/>
                  <a:pt x="1622" y="296"/>
                </a:cubicBezTo>
                <a:cubicBezTo>
                  <a:pt x="1597" y="194"/>
                  <a:pt x="1611" y="182"/>
                  <a:pt x="1511" y="162"/>
                </a:cubicBezTo>
                <a:cubicBezTo>
                  <a:pt x="1374" y="187"/>
                  <a:pt x="1325" y="202"/>
                  <a:pt x="1211" y="240"/>
                </a:cubicBezTo>
                <a:cubicBezTo>
                  <a:pt x="1175" y="264"/>
                  <a:pt x="1141" y="270"/>
                  <a:pt x="1100" y="284"/>
                </a:cubicBezTo>
                <a:cubicBezTo>
                  <a:pt x="1041" y="226"/>
                  <a:pt x="987" y="145"/>
                  <a:pt x="911" y="107"/>
                </a:cubicBezTo>
                <a:cubicBezTo>
                  <a:pt x="828" y="65"/>
                  <a:pt x="723" y="75"/>
                  <a:pt x="633" y="62"/>
                </a:cubicBezTo>
                <a:cubicBezTo>
                  <a:pt x="612" y="0"/>
                  <a:pt x="633" y="32"/>
                  <a:pt x="533" y="7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155400">
            <a:off x="381240" y="3805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TAL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858400">
            <a:off x="287280" y="568764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TAL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824400">
            <a:off x="6629040" y="5714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TAL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22:20:12Z</dcterms:created>
  <dc:creator>ValeriaP</dc:creator>
  <dc:description/>
  <dc:language>en-US</dc:language>
  <cp:lastModifiedBy>Preferred Customer</cp:lastModifiedBy>
  <cp:lastPrinted>1999-09-23T13:57:51Z</cp:lastPrinted>
  <dcterms:modified xsi:type="dcterms:W3CDTF">2002-01-27T02:48:15Z</dcterms:modified>
  <cp:revision>7</cp:revision>
  <dc:subject/>
  <dc:title>No Slide Title</dc:title>
</cp:coreProperties>
</file>